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907588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1032-50D2-4408-8B61-E154FF228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1D91-FF5F-4662-98D3-1725A54D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C7A6-C2FD-4905-A922-8ABF81F42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635F-693E-4B17-86E7-065C535AE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04C9-C032-49F8-B513-DF2FF4CE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63CA-7EEE-4C68-9281-DD7E3A62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E780-64CD-4924-8975-ACB219C6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105C-9D0D-4EDE-8BE9-5A98A5D7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23AB-AF98-4B8A-BE6E-A18EF4C8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BBFB-9CB7-4BD7-9F56-7E4925B7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E6A6-AA02-4DB5-A302-63020D04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F9C6-AD8F-4A54-A29E-4E7CB4C3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C128-0439-497A-BDD7-20BDFD298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2680" y="125388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Joystick saitek X5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es p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y!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58720" y="3370320"/>
            <a:ext cx="2262240" cy="8809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51080" y="320760"/>
            <a:ext cx="2262240" cy="8841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594240" y="2187720"/>
            <a:ext cx="3524040" cy="3390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flipH="1">
            <a:off x="6267240" y="1395360"/>
            <a:ext cx="74520" cy="117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6459120" y="1379520"/>
            <a:ext cx="1622520" cy="106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6575040" y="2421000"/>
            <a:ext cx="873000" cy="56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2050920"/>
            <a:ext cx="866880" cy="48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6189480" y="3755880"/>
            <a:ext cx="17748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11720" y="488880"/>
            <a:ext cx="2260800" cy="8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73960" y="488880"/>
            <a:ext cx="2262240" cy="8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461360" y="1967040"/>
            <a:ext cx="2262240" cy="863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461360" y="3119400"/>
            <a:ext cx="2262240" cy="863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461360" y="4272120"/>
            <a:ext cx="2262240" cy="9144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461360" y="5495760"/>
            <a:ext cx="2262240" cy="936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421240" y="3987360"/>
            <a:ext cx="541440" cy="731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237200" y="3003120"/>
            <a:ext cx="1190520" cy="168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98600" y="2090880"/>
            <a:ext cx="2262240" cy="8841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1200" y="1204920"/>
            <a:ext cx="2262240" cy="8841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5240" y="1204920"/>
            <a:ext cx="2260440" cy="8841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2520" y="455760"/>
            <a:ext cx="78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PD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HAT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9920" y="23508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Tir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143200" y="235080"/>
            <a:ext cx="8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Rotatif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241480" y="171144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Tir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96000" y="2867040"/>
            <a:ext cx="194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Glissière de contrô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116200" y="4016520"/>
            <a:ext cx="8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Rotati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180640" y="524520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Sou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0400" y="3114720"/>
            <a:ext cx="192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Molette de roue ha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6320" y="5532480"/>
            <a:ext cx="2262240" cy="900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37880" y="5600880"/>
            <a:ext cx="72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Tir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sou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- Clic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5200" y="5157720"/>
            <a:ext cx="2262240" cy="8859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0600" y="35701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5000" y="5373720"/>
            <a:ext cx="4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44760" y="4249800"/>
            <a:ext cx="2262240" cy="9111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796920" y="4680000"/>
            <a:ext cx="44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4720" y="4430880"/>
            <a:ext cx="851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Bout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de ro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67480" y="4519440"/>
            <a:ext cx="4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6578280" y="3479400"/>
            <a:ext cx="152280" cy="196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18320" y="3670200"/>
            <a:ext cx="736560" cy="104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800240" y="4718160"/>
            <a:ext cx="615960" cy="81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75240" y="4048200"/>
            <a:ext cx="516240" cy="920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86440" y="4962600"/>
            <a:ext cx="576360" cy="10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27160" y="5967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6720" y="5985000"/>
            <a:ext cx="185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Molette de roue b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578640" y="4419720"/>
            <a:ext cx="108000" cy="19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11000" y="496800"/>
            <a:ext cx="10922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lose W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63360" y="496800"/>
            <a:ext cx="10724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ista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898760" y="496800"/>
            <a:ext cx="23112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978400" y="496800"/>
            <a:ext cx="23112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87000" y="1957320"/>
            <a:ext cx="80856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Temp 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Son 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717400" y="1957320"/>
            <a:ext cx="80388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E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Temp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Vidé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7674840" y="3112920"/>
            <a:ext cx="1560240" cy="860760"/>
            <a:chOff x="7674840" y="3112920"/>
            <a:chExt cx="1560240" cy="860760"/>
          </a:xfrm>
        </p:grpSpPr>
        <p:sp>
          <p:nvSpPr>
            <p:cNvPr id="94" name=""/>
            <p:cNvSpPr/>
            <p:nvPr/>
          </p:nvSpPr>
          <p:spPr>
            <a:xfrm>
              <a:off x="7674840" y="3112920"/>
              <a:ext cx="70488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Pau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003960" y="3112920"/>
              <a:ext cx="2311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7924320" y="4294080"/>
            <a:ext cx="1335960" cy="860760"/>
            <a:chOff x="7924320" y="4294080"/>
            <a:chExt cx="1335960" cy="860760"/>
          </a:xfrm>
        </p:grpSpPr>
        <p:sp>
          <p:nvSpPr>
            <p:cNvPr id="97" name=""/>
            <p:cNvSpPr/>
            <p:nvPr/>
          </p:nvSpPr>
          <p:spPr>
            <a:xfrm>
              <a:off x="7924320" y="4294080"/>
              <a:ext cx="2311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029160" y="4294080"/>
              <a:ext cx="2311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7924320" y="5526000"/>
            <a:ext cx="1323360" cy="860760"/>
            <a:chOff x="7924320" y="5526000"/>
            <a:chExt cx="1323360" cy="860760"/>
          </a:xfrm>
        </p:grpSpPr>
        <p:sp>
          <p:nvSpPr>
            <p:cNvPr id="100" name=""/>
            <p:cNvSpPr/>
            <p:nvPr/>
          </p:nvSpPr>
          <p:spPr>
            <a:xfrm>
              <a:off x="7924320" y="5526000"/>
              <a:ext cx="2311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016560" y="5526000"/>
              <a:ext cx="2311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1373400" y="306360"/>
            <a:ext cx="102348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Ha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Check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88040" y="318960"/>
            <a:ext cx="87408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Piqu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Nu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Scen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8160" y="1208160"/>
            <a:ext cx="8330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Gau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Re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30200" y="1208160"/>
            <a:ext cx="11300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Zoom 1,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ate-He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Zoom in 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76960" y="1220760"/>
            <a:ext cx="69588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ro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x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64360" y="1220760"/>
            <a:ext cx="126288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Zoom 1,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Zoom out (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91200" y="2097000"/>
            <a:ext cx="65628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B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93520" y="2097000"/>
            <a:ext cx="68508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abr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09240" y="3365640"/>
            <a:ext cx="23112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81840" y="4253040"/>
            <a:ext cx="103248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ue tot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13400" y="4241880"/>
            <a:ext cx="8528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65880" y="5156280"/>
            <a:ext cx="28116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94840" y="5168880"/>
            <a:ext cx="23112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94080" y="5537160"/>
            <a:ext cx="9410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lic 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upl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X1 -&gt; 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51200" y="5537160"/>
            <a:ext cx="73692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lic 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28520" y="3365640"/>
            <a:ext cx="23112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121440" y="3238560"/>
            <a:ext cx="13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697280" y="1747800"/>
            <a:ext cx="1067040" cy="354240"/>
            <a:chOff x="4697280" y="1747800"/>
            <a:chExt cx="1067040" cy="354240"/>
          </a:xfrm>
        </p:grpSpPr>
        <p:sp>
          <p:nvSpPr>
            <p:cNvPr id="120" name=""/>
            <p:cNvSpPr/>
            <p:nvPr/>
          </p:nvSpPr>
          <p:spPr>
            <a:xfrm>
              <a:off x="4697280" y="1811520"/>
              <a:ext cx="473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Arial"/>
                </a:rPr>
                <a:t>Zoo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988880" y="1747800"/>
              <a:ext cx="77544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ff0000"/>
                  </a:solidFill>
                  <a:latin typeface="Arial"/>
                </a:rPr>
                <a:t>+ Maj 8 </a:t>
              </a:r>
              <a:r>
                <a:rPr b="0" lang="fr-FR" sz="800" spc="-1" strike="noStrike">
                  <a:solidFill>
                    <a:srgbClr val="ff0000"/>
                  </a:solidFill>
                  <a:latin typeface="Arial"/>
                </a:rPr>
                <a:t>(p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fr-FR" sz="900" spc="-1" strike="noStrike">
                  <a:solidFill>
                    <a:srgbClr val="ff0000"/>
                  </a:solidFill>
                  <a:latin typeface="Arial"/>
                </a:rPr>
                <a:t>- Maj 2 </a:t>
              </a:r>
              <a:r>
                <a:rPr b="0" lang="fr-FR" sz="800" spc="-1" strike="noStrike">
                  <a:solidFill>
                    <a:srgbClr val="ff0000"/>
                  </a:solidFill>
                  <a:latin typeface="Arial"/>
                </a:rPr>
                <a:t>(p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2416320" y="2967120"/>
            <a:ext cx="736560" cy="380160"/>
            <a:chOff x="2416320" y="2967120"/>
            <a:chExt cx="736560" cy="380160"/>
          </a:xfrm>
        </p:grpSpPr>
        <p:sp>
          <p:nvSpPr>
            <p:cNvPr id="123" name=""/>
            <p:cNvSpPr/>
            <p:nvPr/>
          </p:nvSpPr>
          <p:spPr>
            <a:xfrm>
              <a:off x="2627280" y="3040200"/>
              <a:ext cx="52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16320" y="2967120"/>
              <a:ext cx="36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ff0000"/>
                  </a:solidFill>
                  <a:latin typeface="Arial"/>
                </a:rPr>
                <a:t>Maj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181320" y="1473120"/>
            <a:ext cx="2806560" cy="4038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1185840" y="255600"/>
            <a:ext cx="1995480" cy="8049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1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3680" y="1055520"/>
            <a:ext cx="1995480" cy="8049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82680" y="1060560"/>
            <a:ext cx="1995480" cy="8046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4400" y="1865160"/>
            <a:ext cx="1995480" cy="8049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05720" y="2419200"/>
            <a:ext cx="1995480" cy="8049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13560" y="3219480"/>
            <a:ext cx="1995480" cy="804960"/>
          </a:xfrm>
          <a:prstGeom prst="flowChartAlternateProcess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702560" y="3214800"/>
            <a:ext cx="1995480" cy="8046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03920" y="4029120"/>
            <a:ext cx="1995480" cy="8049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32160" y="255600"/>
            <a:ext cx="2262240" cy="8049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9240" y="255600"/>
            <a:ext cx="1995480" cy="8049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03920" y="1292400"/>
            <a:ext cx="1995480" cy="8046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4200" y="4184640"/>
            <a:ext cx="1995480" cy="8049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4200" y="4989600"/>
            <a:ext cx="1995480" cy="8046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8880" y="2997360"/>
            <a:ext cx="1995480" cy="8046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827440" y="5084640"/>
            <a:ext cx="5986440" cy="1609560"/>
            <a:chOff x="2827440" y="5084640"/>
            <a:chExt cx="5986440" cy="1609560"/>
          </a:xfrm>
        </p:grpSpPr>
        <p:sp>
          <p:nvSpPr>
            <p:cNvPr id="141" name=""/>
            <p:cNvSpPr/>
            <p:nvPr/>
          </p:nvSpPr>
          <p:spPr>
            <a:xfrm>
              <a:off x="2827440" y="5084640"/>
              <a:ext cx="1995480" cy="80460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                 </a:t>
              </a: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                 </a:t>
              </a: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                 </a:t>
              </a: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27440" y="5889240"/>
              <a:ext cx="1995480" cy="80496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                 </a:t>
              </a: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                 </a:t>
              </a: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                 </a:t>
              </a: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22920" y="5084640"/>
              <a:ext cx="1995480" cy="80460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               </a:t>
              </a: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               </a:t>
              </a: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               </a:t>
              </a: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22920" y="5889240"/>
              <a:ext cx="1995480" cy="80496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               </a:t>
              </a: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               </a:t>
              </a: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               </a:t>
              </a: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18400" y="5084640"/>
              <a:ext cx="1995480" cy="80460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                </a:t>
              </a: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                </a:t>
              </a: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                </a:t>
              </a: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18400" y="5889240"/>
              <a:ext cx="1995480" cy="80496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                </a:t>
              </a: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                </a:t>
              </a: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                </a:t>
              </a:r>
              <a:r>
                <a:rPr b="1" i="1" lang="en-US" sz="1400" spc="-1" strike="noStrike">
                  <a:solidFill>
                    <a:srgbClr val="3333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 flipH="1">
            <a:off x="5510160" y="4398840"/>
            <a:ext cx="279360" cy="590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5664240" y="4681080"/>
            <a:ext cx="285840" cy="1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4851360" y="2520720"/>
            <a:ext cx="87624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758840" y="1663560"/>
            <a:ext cx="1946520" cy="56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765320" y="1028880"/>
            <a:ext cx="1965240" cy="94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559040" y="1054080"/>
            <a:ext cx="114120" cy="95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43480" y="1866960"/>
            <a:ext cx="838080" cy="29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2479680" y="2482920"/>
            <a:ext cx="1930320" cy="59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998880" y="2724120"/>
            <a:ext cx="370080" cy="295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09560" y="-77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1680" y="353880"/>
            <a:ext cx="84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PD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HAT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975880" y="2359080"/>
            <a:ext cx="76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PD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HAT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55240" y="487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T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646120" y="48744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Tir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646120" y="1541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Tir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759160" y="533232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T1 T3 T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759160" y="613260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T2 T4 T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91240" y="274176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Tir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56520" y="392904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Gâche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2120" y="4437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09520" y="52498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451240" y="3016080"/>
            <a:ext cx="1549440" cy="120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124160" y="2520720"/>
            <a:ext cx="168480" cy="52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248000" y="272880"/>
            <a:ext cx="2240640" cy="729360"/>
            <a:chOff x="4248000" y="272880"/>
            <a:chExt cx="2240640" cy="729360"/>
          </a:xfrm>
        </p:grpSpPr>
        <p:sp>
          <p:nvSpPr>
            <p:cNvPr id="171" name=""/>
            <p:cNvSpPr/>
            <p:nvPr/>
          </p:nvSpPr>
          <p:spPr>
            <a:xfrm>
              <a:off x="4248000" y="290520"/>
              <a:ext cx="1121040" cy="71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Micro ATC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Land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QD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284080" y="272880"/>
              <a:ext cx="1204560" cy="71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Arial"/>
                </a:rPr>
                <a:t>Répé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Arial"/>
                </a:rPr>
                <a:t>Trans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i="1" lang="fr-FR" sz="1400" spc="-1" strike="noStrike">
                  <a:solidFill>
                    <a:srgbClr val="000000"/>
                  </a:solidFill>
                  <a:latin typeface="Arial"/>
                </a:rPr>
                <a:t>Vect. rad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08600" y="290520"/>
            <a:ext cx="3792240" cy="2346120"/>
            <a:chOff x="408600" y="290520"/>
            <a:chExt cx="3792240" cy="2346120"/>
          </a:xfrm>
        </p:grpSpPr>
        <p:sp>
          <p:nvSpPr>
            <p:cNvPr id="174" name=""/>
            <p:cNvSpPr/>
            <p:nvPr/>
          </p:nvSpPr>
          <p:spPr>
            <a:xfrm>
              <a:off x="1227240" y="290520"/>
              <a:ext cx="863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Arial"/>
                </a:rPr>
                <a:t>F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Arial"/>
                </a:rPr>
                <a:t>Chass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Arial"/>
                </a:rPr>
                <a:t>Prop. 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8000" y="290520"/>
              <a:ext cx="1043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Arial"/>
                </a:rPr>
                <a:t>F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Arial"/>
                </a:rPr>
                <a:t>Fly-b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Arial"/>
                </a:rPr>
                <a:t>Prop. ma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8600" y="1090440"/>
              <a:ext cx="697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Arial"/>
                </a:rPr>
                <a:t>F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Arial"/>
                </a:rPr>
                <a:t>Mixt. 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50520" y="1090440"/>
              <a:ext cx="3880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F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91760" y="1090440"/>
              <a:ext cx="74160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Arial"/>
                </a:rPr>
                <a:t>F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Arial"/>
                </a:rPr>
                <a:t>Mixt. 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55760" y="1090440"/>
              <a:ext cx="104508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Arial"/>
                </a:rPr>
                <a:t>F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fr-FR" sz="1400" spc="-1" strike="noStrike">
                  <a:solidFill>
                    <a:srgbClr val="000000"/>
                  </a:solidFill>
                  <a:latin typeface="Arial"/>
                </a:rPr>
                <a:t>Mixt. ma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0360" y="1903320"/>
              <a:ext cx="746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Arial"/>
                </a:rPr>
                <a:t>F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Arial"/>
                </a:rPr>
                <a:t>Prop. 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77520" y="1903320"/>
              <a:ext cx="3880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F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515880" y="3033720"/>
            <a:ext cx="1902240" cy="733320"/>
            <a:chOff x="515880" y="3033720"/>
            <a:chExt cx="1902240" cy="733320"/>
          </a:xfrm>
        </p:grpSpPr>
        <p:sp>
          <p:nvSpPr>
            <p:cNvPr id="183" name=""/>
            <p:cNvSpPr/>
            <p:nvPr/>
          </p:nvSpPr>
          <p:spPr>
            <a:xfrm>
              <a:off x="515880" y="3033720"/>
              <a:ext cx="833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Cockp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533240" y="3033720"/>
              <a:ext cx="884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Arial"/>
                </a:rPr>
                <a:t>Vue Ext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635400" y="4202280"/>
            <a:ext cx="61668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re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43320" y="4202280"/>
            <a:ext cx="87408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ve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39800" y="5021280"/>
            <a:ext cx="3985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X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09080" y="5030640"/>
            <a:ext cx="231120" cy="7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6676920" y="290520"/>
            <a:ext cx="1972800" cy="733320"/>
            <a:chOff x="6676920" y="290520"/>
            <a:chExt cx="1972800" cy="733320"/>
          </a:xfrm>
        </p:grpSpPr>
        <p:sp>
          <p:nvSpPr>
            <p:cNvPr id="190" name=""/>
            <p:cNvSpPr/>
            <p:nvPr/>
          </p:nvSpPr>
          <p:spPr>
            <a:xfrm>
              <a:off x="6676920" y="290520"/>
              <a:ext cx="933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Micro 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796880" y="290520"/>
              <a:ext cx="852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ATC Fl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6859080" y="1319040"/>
            <a:ext cx="1756440" cy="754560"/>
            <a:chOff x="6859080" y="1319040"/>
            <a:chExt cx="1756440" cy="754560"/>
          </a:xfrm>
        </p:grpSpPr>
        <p:sp>
          <p:nvSpPr>
            <p:cNvPr id="193" name=""/>
            <p:cNvSpPr/>
            <p:nvPr/>
          </p:nvSpPr>
          <p:spPr>
            <a:xfrm>
              <a:off x="6859080" y="1319040"/>
              <a:ext cx="564840" cy="7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Arial"/>
                </a:rPr>
                <a:t>Ma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Arial"/>
                </a:rPr>
                <a:t>HU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829640" y="1319040"/>
              <a:ext cx="785880" cy="7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Arial"/>
                </a:rPr>
                <a:t>Vector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Arial"/>
                </a:rPr>
                <a:t>G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022800" y="2449440"/>
            <a:ext cx="3565440" cy="2367000"/>
            <a:chOff x="6022800" y="2449440"/>
            <a:chExt cx="3565440" cy="2367000"/>
          </a:xfrm>
        </p:grpSpPr>
        <p:sp>
          <p:nvSpPr>
            <p:cNvPr id="196" name=""/>
            <p:cNvSpPr/>
            <p:nvPr/>
          </p:nvSpPr>
          <p:spPr>
            <a:xfrm>
              <a:off x="7000560" y="2449440"/>
              <a:ext cx="357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813800" y="2449440"/>
              <a:ext cx="796320" cy="77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Arial"/>
                </a:rPr>
                <a:t>Trim B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22800" y="3249720"/>
              <a:ext cx="357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30640" y="3249720"/>
              <a:ext cx="80712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Arial"/>
                </a:rPr>
                <a:t>Trim G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953120" y="3249720"/>
              <a:ext cx="357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791920" y="3249720"/>
              <a:ext cx="79632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Arial"/>
                </a:rPr>
                <a:t>Trim D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000560" y="4062240"/>
              <a:ext cx="357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813800" y="4062240"/>
              <a:ext cx="79632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Arial"/>
                </a:rPr>
                <a:t>Trim H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797200" y="5103720"/>
            <a:ext cx="1076760" cy="7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◄►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vio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. lacet 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64240" y="5103720"/>
            <a:ext cx="95040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i="1" lang="fr-FR" sz="1000" spc="-1" strike="noStrike">
                <a:solidFill>
                  <a:srgbClr val="000000"/>
                </a:solidFill>
                <a:latin typeface="Arial"/>
              </a:rPr>
              <a:t>(P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ATC VF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AV  T</a:t>
            </a:r>
            <a:r>
              <a:rPr b="1" i="1" lang="fr-FR" sz="10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14920" y="5904000"/>
            <a:ext cx="83448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ar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(P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36160" y="5853240"/>
            <a:ext cx="100188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(P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(P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TC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844160" y="5103720"/>
            <a:ext cx="89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olet 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847480" y="5103720"/>
            <a:ext cx="94428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(P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TC IF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V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ép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68640" y="5916600"/>
            <a:ext cx="843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olet 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45600" y="5916600"/>
            <a:ext cx="1116720" cy="7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(P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(P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TC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F &gt; Com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743160" y="5103720"/>
            <a:ext cx="1117800" cy="7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◄►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élico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. lacet 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808400" y="5103720"/>
            <a:ext cx="100548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i="1" lang="fr-FR" sz="1000" spc="-1" strike="noStrike">
                <a:solidFill>
                  <a:srgbClr val="000000"/>
                </a:solidFill>
                <a:latin typeface="Arial"/>
              </a:rPr>
              <a:t>(P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ATC T</a:t>
            </a:r>
            <a:r>
              <a:rPr b="1" i="1" lang="fr-FR" sz="10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AV </a:t>
            </a: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Arrivé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986880" y="5916600"/>
            <a:ext cx="61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015040" y="5916600"/>
            <a:ext cx="59076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(P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(P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4571640" y="1752480"/>
            <a:ext cx="190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92240" y="5991120"/>
            <a:ext cx="2153520" cy="909000"/>
            <a:chOff x="192240" y="5991120"/>
            <a:chExt cx="2153520" cy="909000"/>
          </a:xfrm>
        </p:grpSpPr>
        <p:sp>
          <p:nvSpPr>
            <p:cNvPr id="218" name=""/>
            <p:cNvSpPr/>
            <p:nvPr/>
          </p:nvSpPr>
          <p:spPr>
            <a:xfrm>
              <a:off x="192240" y="6229440"/>
              <a:ext cx="1487520" cy="47448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33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33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26680" y="5991120"/>
              <a:ext cx="80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Légen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7120" y="6232320"/>
              <a:ext cx="546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a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hif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71720" y="6232320"/>
              <a:ext cx="589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Ave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hif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04160" y="6270480"/>
              <a:ext cx="74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Shift =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Petit doig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3080" y="6669000"/>
              <a:ext cx="479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3333ff"/>
                  </a:solidFill>
                  <a:latin typeface="Arial"/>
                </a:rPr>
                <a:t>Mod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4455360" y="76320"/>
            <a:ext cx="70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Alt C, L, 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34640" y="76320"/>
            <a:ext cx="70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Alt R, S, 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42520" y="71280"/>
            <a:ext cx="72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Imp. écr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037720" y="52560"/>
            <a:ext cx="22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560" y="3056040"/>
            <a:ext cx="473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0000"/>
                </a:solidFill>
                <a:latin typeface="Arial"/>
              </a:rPr>
              <a:t>Maj &amp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6426000" y="2946240"/>
            <a:ext cx="177480" cy="184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6432480" y="4121280"/>
            <a:ext cx="171360" cy="177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8801280" y="2958840"/>
            <a:ext cx="177480" cy="183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782200" y="4114800"/>
            <a:ext cx="177480" cy="165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884920" y="2373480"/>
            <a:ext cx="630360" cy="7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Zo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 v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ter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920800" y="288432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40240" y="40561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912880" y="4049640"/>
            <a:ext cx="34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753400" y="5618160"/>
            <a:ext cx="111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AV = Avion Virtu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755920" y="6424560"/>
            <a:ext cx="932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F = Fréque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851560" y="4910040"/>
            <a:ext cx="919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◄► </a:t>
            </a: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= Centr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950080" y="4822920"/>
            <a:ext cx="0" cy="26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111480" y="338040"/>
            <a:ext cx="781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Vues F1-F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109680" y="538200"/>
            <a:ext cx="64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Camé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105000" y="749160"/>
            <a:ext cx="7246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Mixture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Propul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856760" y="101124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33cc33"/>
                </a:solidFill>
                <a:uFillTx/>
                <a:latin typeface="Arial"/>
              </a:rPr>
              <a:t>ATC de Did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44160" y="663876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33cc33"/>
                </a:solidFill>
                <a:uFillTx/>
                <a:latin typeface="Arial"/>
              </a:rPr>
              <a:t>ATC de Did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19:58:29Z</dcterms:created>
  <dc:creator>pierre</dc:creator>
  <dc:description/>
  <dc:language>en-US</dc:language>
  <cp:lastModifiedBy>pierre</cp:lastModifiedBy>
  <dcterms:modified xsi:type="dcterms:W3CDTF">2007-01-14T13:48:44Z</dcterms:modified>
  <cp:revision>164</cp:revision>
  <dc:subject/>
  <dc:title>Joystick saitek</dc:title>
</cp:coreProperties>
</file>