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88D-F191-4BFB-9E0B-91665DEC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24B-3DDE-4C9B-A8B3-352CA9A6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A47-E762-4722-A602-2996A2D6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784-A2EE-4C38-8D66-60BC122E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072-2829-4DF3-8E3C-C222AFD4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991-95A0-4533-8683-8D2D764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641-CBD1-4357-BE60-ACB67879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94D-FDDC-43ED-A43E-319D8A72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965-A5CA-4189-AF1C-4CF3DBFC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9BD-0088-42AF-9756-ADE240EA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1A1-53CA-4765-AA52-629D7D1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FDA-4DCF-41C3-8247-7868D0A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60C-01E1-44A6-BD91-DBBD32415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6648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oystick Saitek X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s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8720" y="3370320"/>
            <a:ext cx="2262240" cy="88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1080" y="320760"/>
            <a:ext cx="22622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94240" y="2187720"/>
            <a:ext cx="3524040" cy="339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6267240" y="1395360"/>
            <a:ext cx="7452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59120" y="1379520"/>
            <a:ext cx="1622520" cy="10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575040" y="2421000"/>
            <a:ext cx="873000" cy="56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68760" y="2540160"/>
            <a:ext cx="191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66000" y="3166920"/>
            <a:ext cx="5443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189480" y="3755880"/>
            <a:ext cx="17748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720" y="488880"/>
            <a:ext cx="2260800" cy="8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73960" y="488880"/>
            <a:ext cx="2262240" cy="8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1360" y="1967040"/>
            <a:ext cx="22622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1360" y="3119400"/>
            <a:ext cx="22622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1360" y="4272120"/>
            <a:ext cx="2262240" cy="9144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1360" y="5495760"/>
            <a:ext cx="226224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21240" y="3987360"/>
            <a:ext cx="541440" cy="73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37200" y="3003120"/>
            <a:ext cx="1190520" cy="168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090880"/>
            <a:ext cx="226188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200" y="1204920"/>
            <a:ext cx="22622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5240" y="1204920"/>
            <a:ext cx="22604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520" y="455760"/>
            <a:ext cx="7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2350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43200" y="235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Rotatif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41480" y="1711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000" y="2867040"/>
            <a:ext cx="19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Glissière de cont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16200" y="4016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Rotati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80640" y="52452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ou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" y="311472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Molette de roue ha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6320" y="5532480"/>
            <a:ext cx="2262240" cy="900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7880" y="5600880"/>
            <a:ext cx="72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ou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- Clic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200" y="5157720"/>
            <a:ext cx="2262240" cy="885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600" y="35701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5000" y="53737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4760" y="4249800"/>
            <a:ext cx="2262240" cy="911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96920" y="468000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720" y="443088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Bou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67480" y="45194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16800" y="31622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5080" y="3162240"/>
            <a:ext cx="46980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578280" y="3479400"/>
            <a:ext cx="152280" cy="19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18320" y="3670200"/>
            <a:ext cx="7365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800240" y="4718160"/>
            <a:ext cx="61596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5240" y="4048200"/>
            <a:ext cx="516240" cy="92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86440" y="4962600"/>
            <a:ext cx="57636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27160" y="596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720" y="598500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Molette de roue 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78640" y="4419720"/>
            <a:ext cx="10800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646600" y="496800"/>
            <a:ext cx="3567240" cy="860760"/>
            <a:chOff x="5646600" y="496800"/>
            <a:chExt cx="3567240" cy="860760"/>
          </a:xfrm>
        </p:grpSpPr>
        <p:sp>
          <p:nvSpPr>
            <p:cNvPr id="91" name=""/>
            <p:cNvSpPr/>
            <p:nvPr/>
          </p:nvSpPr>
          <p:spPr>
            <a:xfrm>
              <a:off x="5646600" y="4968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64040" y="4968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94440" y="4968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973720" y="4968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894440" y="1957320"/>
            <a:ext cx="1344960" cy="873360"/>
            <a:chOff x="7894440" y="1957320"/>
            <a:chExt cx="1344960" cy="873360"/>
          </a:xfrm>
        </p:grpSpPr>
        <p:sp>
          <p:nvSpPr>
            <p:cNvPr id="96" name=""/>
            <p:cNvSpPr/>
            <p:nvPr/>
          </p:nvSpPr>
          <p:spPr>
            <a:xfrm>
              <a:off x="7894440" y="19699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99280" y="19573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907040" y="3112920"/>
            <a:ext cx="1332360" cy="860760"/>
            <a:chOff x="7907040" y="3112920"/>
            <a:chExt cx="1332360" cy="860760"/>
          </a:xfrm>
        </p:grpSpPr>
        <p:sp>
          <p:nvSpPr>
            <p:cNvPr id="99" name=""/>
            <p:cNvSpPr/>
            <p:nvPr/>
          </p:nvSpPr>
          <p:spPr>
            <a:xfrm>
              <a:off x="7907040" y="31129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99280" y="31129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919640" y="4294080"/>
            <a:ext cx="1345320" cy="860760"/>
            <a:chOff x="7919640" y="4294080"/>
            <a:chExt cx="1345320" cy="860760"/>
          </a:xfrm>
        </p:grpSpPr>
        <p:sp>
          <p:nvSpPr>
            <p:cNvPr id="102" name=""/>
            <p:cNvSpPr/>
            <p:nvPr/>
          </p:nvSpPr>
          <p:spPr>
            <a:xfrm>
              <a:off x="7919640" y="42940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24840" y="42940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919640" y="5526000"/>
            <a:ext cx="1332360" cy="860760"/>
            <a:chOff x="7919640" y="5526000"/>
            <a:chExt cx="1332360" cy="860760"/>
          </a:xfrm>
        </p:grpSpPr>
        <p:sp>
          <p:nvSpPr>
            <p:cNvPr id="105" name=""/>
            <p:cNvSpPr/>
            <p:nvPr/>
          </p:nvSpPr>
          <p:spPr>
            <a:xfrm>
              <a:off x="7919640" y="55260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11880" y="55260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68160" y="331920"/>
            <a:ext cx="3592800" cy="2625840"/>
            <a:chOff x="668160" y="331920"/>
            <a:chExt cx="3592800" cy="2625840"/>
          </a:xfrm>
        </p:grpSpPr>
        <p:sp>
          <p:nvSpPr>
            <p:cNvPr id="108" name=""/>
            <p:cNvSpPr/>
            <p:nvPr/>
          </p:nvSpPr>
          <p:spPr>
            <a:xfrm>
              <a:off x="1811160" y="3319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8600" y="33192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8160" y="12081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8200" y="12081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28600" y="12207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20840" y="12081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3760" y="20970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41200" y="209700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72720" y="3365640"/>
            <a:ext cx="1370520" cy="860760"/>
            <a:chOff x="972720" y="3365640"/>
            <a:chExt cx="1370520" cy="860760"/>
          </a:xfrm>
        </p:grpSpPr>
        <p:sp>
          <p:nvSpPr>
            <p:cNvPr id="117" name=""/>
            <p:cNvSpPr/>
            <p:nvPr/>
          </p:nvSpPr>
          <p:spPr>
            <a:xfrm>
              <a:off x="972720" y="336564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03120" y="336564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89000" y="4267080"/>
            <a:ext cx="1395720" cy="860760"/>
            <a:chOff x="1989000" y="4267080"/>
            <a:chExt cx="1395720" cy="860760"/>
          </a:xfrm>
        </p:grpSpPr>
        <p:sp>
          <p:nvSpPr>
            <p:cNvPr id="120" name=""/>
            <p:cNvSpPr/>
            <p:nvPr/>
          </p:nvSpPr>
          <p:spPr>
            <a:xfrm>
              <a:off x="1989000" y="42670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44600" y="42670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85680" y="5156280"/>
            <a:ext cx="1344960" cy="873360"/>
            <a:chOff x="985680" y="5156280"/>
            <a:chExt cx="1344960" cy="873360"/>
          </a:xfrm>
        </p:grpSpPr>
        <p:sp>
          <p:nvSpPr>
            <p:cNvPr id="123" name=""/>
            <p:cNvSpPr/>
            <p:nvPr/>
          </p:nvSpPr>
          <p:spPr>
            <a:xfrm>
              <a:off x="985680" y="51562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0520" y="516888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765240" y="5537160"/>
            <a:ext cx="1357920" cy="873360"/>
            <a:chOff x="3765240" y="5537160"/>
            <a:chExt cx="1357920" cy="873360"/>
          </a:xfrm>
        </p:grpSpPr>
        <p:sp>
          <p:nvSpPr>
            <p:cNvPr id="126" name=""/>
            <p:cNvSpPr/>
            <p:nvPr/>
          </p:nvSpPr>
          <p:spPr>
            <a:xfrm>
              <a:off x="3765240" y="55497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3040" y="5537160"/>
              <a:ext cx="240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81320" y="1473120"/>
            <a:ext cx="2806560" cy="403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185840" y="2556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105552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82680" y="106056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4400" y="186516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4192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560" y="321948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02560" y="322416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3920" y="402912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32160" y="255600"/>
            <a:ext cx="226224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9240" y="2556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3920" y="129240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8880" y="42084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880" y="501336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880" y="299736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27440" y="5084640"/>
            <a:ext cx="5986440" cy="1609560"/>
            <a:chOff x="2827440" y="5084640"/>
            <a:chExt cx="5986440" cy="1609560"/>
          </a:xfrm>
        </p:grpSpPr>
        <p:sp>
          <p:nvSpPr>
            <p:cNvPr id="144" name=""/>
            <p:cNvSpPr/>
            <p:nvPr/>
          </p:nvSpPr>
          <p:spPr>
            <a:xfrm>
              <a:off x="282744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2744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2292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2292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1840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1840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562720" y="4483080"/>
            <a:ext cx="24120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727600" y="4737240"/>
            <a:ext cx="5716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51360" y="2520720"/>
            <a:ext cx="87624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758840" y="1663560"/>
            <a:ext cx="19465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65320" y="1028880"/>
            <a:ext cx="196524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559040" y="1054080"/>
            <a:ext cx="114120" cy="9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43480" y="1866960"/>
            <a:ext cx="83808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79680" y="2482920"/>
            <a:ext cx="193032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025880" y="2723760"/>
            <a:ext cx="343080" cy="33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9560" y="-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680" y="366840"/>
            <a:ext cx="8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36200" y="25113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7720" y="50652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46120" y="506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46120" y="15606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59160" y="529416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1 T3 T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59160" y="6068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2 T4 T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91240" y="27417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61200" y="3952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Gâch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00" y="4498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4200" y="535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470320" y="3060720"/>
            <a:ext cx="15429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37120" y="2526840"/>
            <a:ext cx="162000" cy="6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4320" y="277920"/>
            <a:ext cx="1319760" cy="733320"/>
            <a:chOff x="4684320" y="277920"/>
            <a:chExt cx="1319760" cy="733320"/>
          </a:xfrm>
        </p:grpSpPr>
        <p:sp>
          <p:nvSpPr>
            <p:cNvPr id="174" name=""/>
            <p:cNvSpPr/>
            <p:nvPr/>
          </p:nvSpPr>
          <p:spPr>
            <a:xfrm>
              <a:off x="4684320" y="2779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63960" y="2779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3240" y="290520"/>
            <a:ext cx="3161160" cy="2346120"/>
            <a:chOff x="633240" y="290520"/>
            <a:chExt cx="3161160" cy="2346120"/>
          </a:xfrm>
        </p:grpSpPr>
        <p:sp>
          <p:nvSpPr>
            <p:cNvPr id="177" name=""/>
            <p:cNvSpPr/>
            <p:nvPr/>
          </p:nvSpPr>
          <p:spPr>
            <a:xfrm>
              <a:off x="1533960" y="2905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160" y="2905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3240" y="1090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3600" y="1090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38000" y="1090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4280" y="1090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9480" y="19033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50960" y="19033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11080" y="3033720"/>
            <a:ext cx="1281240" cy="733320"/>
            <a:chOff x="811080" y="3033720"/>
            <a:chExt cx="1281240" cy="733320"/>
          </a:xfrm>
        </p:grpSpPr>
        <p:sp>
          <p:nvSpPr>
            <p:cNvPr id="186" name=""/>
            <p:cNvSpPr/>
            <p:nvPr/>
          </p:nvSpPr>
          <p:spPr>
            <a:xfrm>
              <a:off x="811080" y="3033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52200" y="3033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23680" y="4245120"/>
            <a:ext cx="1281600" cy="1533240"/>
            <a:chOff x="823680" y="4245120"/>
            <a:chExt cx="1281600" cy="1533240"/>
          </a:xfrm>
        </p:grpSpPr>
        <p:sp>
          <p:nvSpPr>
            <p:cNvPr id="189" name=""/>
            <p:cNvSpPr/>
            <p:nvPr/>
          </p:nvSpPr>
          <p:spPr>
            <a:xfrm>
              <a:off x="823680" y="42451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65160" y="42451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3680" y="50450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65160" y="50450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021080" y="290520"/>
            <a:ext cx="1319760" cy="733320"/>
            <a:chOff x="7021080" y="290520"/>
            <a:chExt cx="1319760" cy="733320"/>
          </a:xfrm>
        </p:grpSpPr>
        <p:sp>
          <p:nvSpPr>
            <p:cNvPr id="194" name=""/>
            <p:cNvSpPr/>
            <p:nvPr/>
          </p:nvSpPr>
          <p:spPr>
            <a:xfrm>
              <a:off x="7021080" y="2905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00720" y="2905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021080" y="1319040"/>
            <a:ext cx="1319760" cy="733320"/>
            <a:chOff x="7021080" y="1319040"/>
            <a:chExt cx="1319760" cy="733320"/>
          </a:xfrm>
        </p:grpSpPr>
        <p:sp>
          <p:nvSpPr>
            <p:cNvPr id="197" name=""/>
            <p:cNvSpPr/>
            <p:nvPr/>
          </p:nvSpPr>
          <p:spPr>
            <a:xfrm>
              <a:off x="7021080" y="13190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00720" y="13190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081480" y="2449440"/>
            <a:ext cx="3224520" cy="2346120"/>
            <a:chOff x="6081480" y="2449440"/>
            <a:chExt cx="3224520" cy="2346120"/>
          </a:xfrm>
        </p:grpSpPr>
        <p:sp>
          <p:nvSpPr>
            <p:cNvPr id="200" name=""/>
            <p:cNvSpPr/>
            <p:nvPr/>
          </p:nvSpPr>
          <p:spPr>
            <a:xfrm>
              <a:off x="7059240" y="2449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8120" y="24494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1480" y="3249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10000" y="3249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11800" y="3249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65880" y="324972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59240" y="40622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88120" y="406224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211200" y="5116680"/>
            <a:ext cx="5218560" cy="1545840"/>
            <a:chOff x="3211200" y="5116680"/>
            <a:chExt cx="5218560" cy="1545840"/>
          </a:xfrm>
        </p:grpSpPr>
        <p:sp>
          <p:nvSpPr>
            <p:cNvPr id="209" name=""/>
            <p:cNvSpPr/>
            <p:nvPr/>
          </p:nvSpPr>
          <p:spPr>
            <a:xfrm>
              <a:off x="321120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452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11200" y="59166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4520" y="59166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6708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560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67080" y="59292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3000" y="59292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7372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89640" y="511668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73720" y="59292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89640" y="5929200"/>
              <a:ext cx="2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H="1">
            <a:off x="4571640" y="1752480"/>
            <a:ext cx="190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39560" y="5883120"/>
            <a:ext cx="2160000" cy="909000"/>
            <a:chOff x="439560" y="5883120"/>
            <a:chExt cx="2160000" cy="909000"/>
          </a:xfrm>
        </p:grpSpPr>
        <p:sp>
          <p:nvSpPr>
            <p:cNvPr id="223" name=""/>
            <p:cNvSpPr/>
            <p:nvPr/>
          </p:nvSpPr>
          <p:spPr>
            <a:xfrm>
              <a:off x="439560" y="6121440"/>
              <a:ext cx="1487520" cy="47448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4360" y="588312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Lége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4800" y="612432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9040" y="6124320"/>
              <a:ext cx="58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ve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57960" y="61624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hift =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Petit doig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56880" y="656100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3333ff"/>
                  </a:solidFill>
                  <a:latin typeface="Arial"/>
                </a:rPr>
                <a:t>M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9:58:29Z</dcterms:created>
  <dc:creator>pierre</dc:creator>
  <dc:description/>
  <dc:language>en-US</dc:language>
  <cp:lastModifiedBy>pierre</cp:lastModifiedBy>
  <dcterms:modified xsi:type="dcterms:W3CDTF">2007-03-27T11:48:52Z</dcterms:modified>
  <cp:revision>110</cp:revision>
  <dc:subject/>
  <dc:title>Joystick saitek</dc:title>
</cp:coreProperties>
</file>